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4DF05-F546-462C-9766-D9DA0C19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C7316-7D0C-40A2-B003-9742C2E5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581FB-D6B3-4211-A989-8B25295BC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E04F0-CB9D-4C28-B689-F0C08EAB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07332-05A7-4271-B2F3-959C96AC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0B0E7-210C-4907-8EDB-D4C484F5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9A89-29CC-4CEF-A66C-AE5EB0FA6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s that have a publicly hosted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laxy, MAKER Web Annotation Service, WebG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 side to not being monolith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times integration is not smo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F0B72-EBD6-4D53-870C-CE61169E5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0B31A-BA7B-4BB6-A35F-83459222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B8910-02A6-434D-931D-5AAF5039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27B6-7910-45F6-A53B-F7521759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B50D-9775-4BF8-89DC-6C2390D6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A6C9-8E9A-4B03-A83E-8CC3555F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5519B-952C-4E4E-996D-1359EBFA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360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088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32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360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088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001042"/>
          </a:solidFill>
          <a:ln w="9360">
            <a:solidFill>
              <a:srgbClr val="5d09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he State of GM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574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11 GMO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5578560"/>
            <a:ext cx="1371600" cy="127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4880" y="6183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5680" y="2057400"/>
            <a:ext cx="574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ott C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MOD Project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tario Institute for Cancer Research (OI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ott@scottcai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447920"/>
            <a:ext cx="6477120" cy="380880"/>
          </a:xfrm>
          <a:prstGeom prst="rect">
            <a:avLst/>
          </a:prstGeom>
          <a:solidFill>
            <a:srgbClr val="edf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5630760"/>
            <a:ext cx="16765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58572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0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istributed databases and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/track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ig, BigWig and B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JAX track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utomatic summary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2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etails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iPa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508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0" y="784080"/>
            <a:ext cx="6881760" cy="530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82000" y="90000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082000" y="5327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082000" y="3995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082000" y="2340000"/>
            <a:ext cx="909720" cy="96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7027920" y="145260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29360" y="5845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29360" y="4513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29360" y="285768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2917800"/>
            <a:ext cx="10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0680" y="151272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1680" y="4618080"/>
            <a:ext cx="84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5954760"/>
            <a:ext cx="123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/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92320" y="2825640"/>
            <a:ext cx="682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ocalhost/cgi-bin/gb2/gbrowse/yeast_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362320" cy="220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0440" y="1027080"/>
            <a:ext cx="29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thony deCatanz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ristopher Vandeve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ter Ruz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an Da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4775040"/>
            <a:ext cx="18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920" y="374508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Ho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77320" y="3429000"/>
            <a:ext cx="20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mar L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l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ara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902040" cy="10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9720" y="938160"/>
            <a:ext cx="297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eople than I could possibly name, and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 set of interoperable open-sourc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software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components for visualizing, annotating, and managing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n activ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of developers and users asking diverse questions, and facing common challenges, with their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838080"/>
            <a:ext cx="88390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680" y="893880"/>
            <a:ext cx="2917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2.00-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rowse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1.1-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al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ne 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New to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Web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eb interface for creating GBrows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I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1042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Biologist-friendly” interface for Erga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Summer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op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ttp://gmod.org/G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ooperative application between Reactome, WormBase, and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9 suggested ideas with 8 possible mentors (and many more should the need a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an Diego/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Brows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d a Ubuntu VMwar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MOD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Presentations on GBrowse_syn, Galaxy, MAKER, Tr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8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 least 25 workshops, tutorials and posters involving GM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.org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Moved from CSHL to OI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 year in th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pdated the News entry interface—way easier to ad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reate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dd a template at the bott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{{NewsItem|2011/03/05}}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sue in Database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Virtual”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eory, tutorial or community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GMOD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October 2011: Toronto, Ca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pril 2012: Washington, DC (in conjunction with the Biocurator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56:20Z</dcterms:created>
  <dc:creator>GMOD / NESCent</dc:creator>
  <dc:description/>
  <dc:language>en-US</dc:language>
  <cp:lastModifiedBy>Dave Clements</cp:lastModifiedBy>
  <cp:lastPrinted>2009-10-27T11:05:13Z</cp:lastPrinted>
  <dcterms:modified xsi:type="dcterms:W3CDTF">2011-02-28T18:22:40Z</dcterms:modified>
  <cp:revision>55</cp:revision>
  <dc:subject/>
  <dc:title>PowerPoint Presentation</dc:title>
</cp:coreProperties>
</file>